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149-3BE5-4F07-918E-DE3C15E5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F02-FC30-4634-A419-F62E8C03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399-691A-4205-975C-D0647991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341-2910-49E5-9040-928FB7DB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493-FE34-43B4-BB37-EB0DF7DD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B92-9441-46D4-B1A3-7DDA5DE0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EEE-7AE1-4382-A5F6-752888AE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CD3-53E7-4164-8335-657446B9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134-B61D-4455-94A2-60A8F64B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A0F-CBF7-42C6-83FA-1F4F852C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085-8E34-4F4D-9E44-F5F8152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2FE-18BC-4AE8-AAC3-9E11AAC7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23D6-1EEB-49B0-A926-10599D7C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2718000" cy="407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40" y="5826240"/>
            <a:ext cx="3032280" cy="202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17960" y="4876920"/>
            <a:ext cx="276372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9880" y="1066680"/>
            <a:ext cx="29718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92680" y="0"/>
            <a:ext cx="288900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2648160" cy="397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2725560" cy="409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6320" y="586728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382840" cy="358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560" y="4915080"/>
            <a:ext cx="271764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92600" y="4954680"/>
            <a:ext cx="2684520" cy="40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733920" y="12952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2040" y="4800600"/>
            <a:ext cx="257976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78280" y="4876920"/>
            <a:ext cx="2979720" cy="362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240" y="1371600"/>
            <a:ext cx="3066840" cy="203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267080" y="819000"/>
            <a:ext cx="2513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60" y="304920"/>
            <a:ext cx="253512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2697120" cy="4038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925880"/>
            <a:ext cx="2768760" cy="414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183200" y="4800600"/>
            <a:ext cx="267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1801800" cy="373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386080" cy="3581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64040" y="228600"/>
            <a:ext cx="2489040" cy="373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62520" y="5029200"/>
            <a:ext cx="270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1-10T22:51:50Z</dcterms:modified>
  <cp:revision>5</cp:revision>
  <dc:subject/>
  <dc:title>Slide 1</dc:title>
</cp:coreProperties>
</file>